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ow to use learning targets to improve student learn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understand why sharing learning targets with students is importa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define characteristics of a good learning target for studen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understand the components of a learning targe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Meet with grade level partners to improve your learning targets and assessments for an existing learning progress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Check your learning targets are in student friendly languag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ill the assessment provide enough information to teacher and students about conceptual understanding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are the criteria for success and how will they be communicated to students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Use the classroom walkthrough forms for sharing learning targets to help frame your thinking for the abov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s we prepared for our start up days- Pinky, Sue, and I found ourselves to be unclear what we meant by our own vocabulary.  We decided we needed more clarity on the following questions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do we mean by a learning target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For a lesson? A unit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ere does the assessment fit in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ow do students know the criteria for success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we think about a learning progression like the ones we introduced to you last fall, there are building block ideas, in blue, that help build the big ideas for the unit. 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If we look at the building block ideas, each of them helps build the unit big ideas, and each of the blue building block ideas is a learning target for that lesson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s we started talking about learning progressions, we started talking about a learning cycle, and realized that in our minds, a complete learning cycle is completed in each blue building block. 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learning cycle within each building block should always have a similar structur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) Elicit initial ideas about the learning target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) Gather some evidence about the learning target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3) Reflect and revisit initial thinking- in most cases, there will be some more gathering of evidence and reflection, perhaps a few cycles, before moving on to the next step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4) Make sense of the new concept, within the context of the evidence gathered and each person’s initial ideas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5) Assess students understanding and share that information with students. 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6) Based on the assessment, either replan the lesson with your PLC or continue on to the next building block in the learning progression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e know learning targets are important for teachers and students: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challenges do you face sharing learning targets with students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Consider the following questions as you read Knowing Your Learning Targe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y is it important to share learning targets with your students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are the characteristics of a good learning target for students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hare your ideas with your table mates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5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Learning Targets as defined by Pinky, Sue, and Shann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54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 clear learning target will tell students: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5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1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Wh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they will be able to do when they’ve finished the lesson (assessment or performance expectation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5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2) What idea, topic, or subject is important for students to learn and understand so they can do this (content or process goal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5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3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o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they will show that they can do this, and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ow w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they will have to do it (criteria for succes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5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5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A learning target should convey to your students what today’s lesson should mean for them- as well as how this target is related to the big ideas in the unit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ith an understanding of the Learning Target vocabulary from the last slide: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articipants consider each learning target through the student lens: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!) What will I be able to do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) What is important for me to understand to do this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3) What are the criteria for success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o over one as an example for the group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ave participants practice using strategies from Brookhart (Questioning/ Planning and Envisioning/ Using Examples/ Using Rubric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DEB9D-3B49-49B9-B24A-A80C8217CAA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5113-C324-4EF7-9D88-E20F6D9599C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83DC-D9E6-4C1D-BC5D-4831DD63BD2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12446-649B-42C6-B84E-3145143E62B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E1FF-86EE-4A23-BCF7-0FEA40217F4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3652-80AE-4726-A962-8BCF8DB4CE2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1C305-C7AE-4784-9674-033C4D44E3A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D72-4B2D-4CBA-9EE9-B0EC428FFFD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0A6-FDCD-4179-B256-C4497DED9C6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5898-B68B-4771-A331-26E6189B277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A83-C4F5-4F8A-81E9-5F6106E492C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29B5-AF43-421D-A18E-9D257FB1854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283-0352-4586-9B04-7B32C583630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89C-62E3-4AA2-9DE3-58D06B754A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FC9C-F505-4D41-B444-3B762226A17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885-F1EC-47B7-8458-3A90110C19E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86C-87E5-4DF5-8FD7-018236CC618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FE95-14E4-4DEE-9812-5A412FDEF14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408-A5C7-4179-A258-8C6622C1405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1E34-9F33-4EDB-8CA4-71CB54D3668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93E3-0E87-4A22-B47B-7793A159E08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53BD-81A9-4BDB-93FB-CF15BDC284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B5F8-B5C7-4D83-8714-2EA548C1AA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AC59-C9AE-45D8-8025-191EFAEE3D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60F38-70AC-40E1-906F-C001CC14EA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AE0DE-A71F-4736-BA03-033C3F048C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8E71C-CD0C-4ED0-875E-D5A4BB404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115E1-DF3A-49C2-BE81-35C0A0D362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6DD08-EEA6-4E27-B6FF-04A38786B2F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4E1C1-5D11-476E-BBEE-DBF6FEA956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DAAA7-4222-4ED7-96C3-CBA8507BA6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20CDA-18B6-4EED-98E1-EC81C738053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CEC8C-761E-4D34-949F-676AEFC30E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77B74-5177-4E01-B987-94B30D727B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8F851-4E12-498D-8BE2-6FDD634083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15199-832D-4F9C-A8F2-44E622E13BD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Num" idx="3"/>
          </p:nvPr>
        </p:nvSpPr>
        <p:spPr>
          <a:xfrm>
            <a:off x="10674000" y="9124560"/>
            <a:ext cx="320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4EFF-B0D9-48A2-8A61-30F813203574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10674000" y="9124560"/>
            <a:ext cx="320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03E0-9EB5-4618-A3A9-2217D79833B0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640" y="128520"/>
            <a:ext cx="11709360" cy="2146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08108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53828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2"/>
          </p:nvPr>
        </p:nvSpPr>
        <p:spPr>
          <a:xfrm>
            <a:off x="10675440" y="9124560"/>
            <a:ext cx="3193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DD53-435D-4290-A5E6-18230813AE86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6058080" y="1952640"/>
            <a:ext cx="603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115560" tIns="0" bIns="0" anchor="t">
            <a:normAutofit/>
          </a:bodyPr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ow to use learning targets to improve student learn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stand why sharing learning targets with students is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characteristics of a good learning target for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stand the components of a learning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927000" y="1955880"/>
            <a:ext cx="5007240" cy="44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-3051000" y="-2705040"/>
            <a:ext cx="17998920" cy="1350000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5016600" y="171360"/>
            <a:ext cx="226044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Work with your peers to ensure your learning targets are in student friendly languag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7" name=""/>
          <p:cNvSpPr/>
          <p:nvPr/>
        </p:nvSpPr>
        <p:spPr>
          <a:xfrm>
            <a:off x="2657520" y="6337440"/>
            <a:ext cx="2260440" cy="34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Will the assessment provide enough information to teacher and students about conceptual understanding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8" name=""/>
          <p:cNvSpPr/>
          <p:nvPr/>
        </p:nvSpPr>
        <p:spPr>
          <a:xfrm>
            <a:off x="8867880" y="8178840"/>
            <a:ext cx="326376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What are the criteria for success and how will they be communicated to students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5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0674000" y="9124560"/>
            <a:ext cx="320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7A1C-D96C-46C6-8967-F9B57BDB155C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-692280" y="-892080"/>
            <a:ext cx="13690800" cy="1093932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1536840" y="1778040"/>
            <a:ext cx="9931320" cy="383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 Bold"/>
                <a:ea typeface="Calibri Bold"/>
              </a:rPr>
              <a:t>What do we mean by a learning target?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 Bold"/>
                <a:ea typeface="Calibri Bold"/>
              </a:rPr>
              <a:t>For a lesson? 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 Bold"/>
                <a:ea typeface="Calibri Bold"/>
              </a:rPr>
              <a:t>A unit?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 Bold"/>
                <a:ea typeface="Calibri Bold"/>
              </a:rPr>
              <a:t>Where does the assessment fit in?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 Bold"/>
                <a:ea typeface="Calibri Bold"/>
              </a:rPr>
              <a:t>How do students know the criteria for success?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A5EC-9A46-48E3-8C68-F99C8B63970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317520" y="1155600"/>
            <a:ext cx="12407760" cy="746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917720" y="5892840"/>
            <a:ext cx="1270080" cy="1270080"/>
          </a:xfrm>
          <a:prstGeom prst="roundRect">
            <a:avLst>
              <a:gd name="adj" fmla="val 1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2" name=""/>
          <p:cNvSpPr/>
          <p:nvPr/>
        </p:nvSpPr>
        <p:spPr>
          <a:xfrm>
            <a:off x="2031840" y="5937120"/>
            <a:ext cx="10670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ll plants and animals have various external part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"/>
          <p:cNvSpPr/>
          <p:nvPr/>
        </p:nvSpPr>
        <p:spPr>
          <a:xfrm>
            <a:off x="4178160" y="3137040"/>
            <a:ext cx="1270080" cy="2603520"/>
          </a:xfrm>
          <a:custGeom>
            <a:avLst/>
            <a:gdLst>
              <a:gd name="textAreaLeft" fmla="*/ 55800 w 1270080"/>
              <a:gd name="textAreaRight" fmla="*/ 1214280 w 1270080"/>
              <a:gd name="textAreaTop" fmla="*/ 55800 h 2603520"/>
              <a:gd name="textAreaBottom" fmla="*/ 2547720 h 2603520"/>
            </a:gdLst>
            <a:ahLst/>
            <a:rect l="textAreaLeft" t="textAreaTop" r="textAreaRight" b="textAreaBottom"/>
            <a:pathLst>
              <a:path w="21600" h="44271">
                <a:moveTo>
                  <a:pt x="3240" y="0"/>
                </a:moveTo>
                <a:arcTo wR="3240" hR="3240" stAng="16200000" swAng="-5400000"/>
                <a:lnTo>
                  <a:pt x="0" y="41031"/>
                </a:lnTo>
                <a:arcTo wR="3240" hR="3240" stAng="10800000" swAng="-5400000"/>
                <a:lnTo>
                  <a:pt x="18360" y="44271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"/>
          <p:cNvSpPr/>
          <p:nvPr/>
        </p:nvSpPr>
        <p:spPr>
          <a:xfrm>
            <a:off x="6515280" y="1701720"/>
            <a:ext cx="1269720" cy="243864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2438640"/>
              <a:gd name="textAreaBottom" fmla="*/ 2382840 h 2438640"/>
            </a:gdLst>
            <a:ahLst/>
            <a:rect l="textAreaLeft" t="textAreaTop" r="textAreaRight" b="textAreaBottom"/>
            <a:pathLst>
              <a:path w="21600" h="41480">
                <a:moveTo>
                  <a:pt x="3240" y="0"/>
                </a:moveTo>
                <a:arcTo wR="3240" hR="3240" stAng="16200000" swAng="-5400000"/>
                <a:lnTo>
                  <a:pt x="0" y="38240"/>
                </a:lnTo>
                <a:arcTo wR="3240" hR="3240" stAng="10800000" swAng="-5400000"/>
                <a:lnTo>
                  <a:pt x="18360" y="41480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"/>
          <p:cNvSpPr/>
          <p:nvPr/>
        </p:nvSpPr>
        <p:spPr>
          <a:xfrm>
            <a:off x="4295880" y="3193920"/>
            <a:ext cx="106668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Different animals use their body parts in different ways to see, hear, grasp objects, and move from place to place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6" name=""/>
          <p:cNvSpPr/>
          <p:nvPr/>
        </p:nvSpPr>
        <p:spPr>
          <a:xfrm>
            <a:off x="6553080" y="1670040"/>
            <a:ext cx="106704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nimals have various ways of obtaining food and water.  Nearly all animals drink water or eat foods that contain water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"/>
          <p:cNvSpPr/>
          <p:nvPr/>
        </p:nvSpPr>
        <p:spPr>
          <a:xfrm>
            <a:off x="8826480" y="774720"/>
            <a:ext cx="2425680" cy="2324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"/>
          <p:cNvSpPr/>
          <p:nvPr/>
        </p:nvSpPr>
        <p:spPr>
          <a:xfrm>
            <a:off x="9261360" y="1047600"/>
            <a:ext cx="156204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Bold"/>
                <a:ea typeface="Calibri Bold"/>
              </a:rPr>
              <a:t>Living things have basic needs, and they meet their needs in various ways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"/>
          <p:cNvSpPr/>
          <p:nvPr/>
        </p:nvSpPr>
        <p:spPr>
          <a:xfrm>
            <a:off x="8876880" y="44280"/>
            <a:ext cx="232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Gill Sans"/>
              </a:rPr>
              <a:t>Unit Big Idea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"/>
          <p:cNvSpPr/>
          <p:nvPr/>
        </p:nvSpPr>
        <p:spPr>
          <a:xfrm>
            <a:off x="6037560" y="4380120"/>
            <a:ext cx="223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 Bold"/>
                <a:ea typeface="Calibri Bold"/>
              </a:rPr>
              <a:t>Lesson Learning Targe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1" name=""/>
          <p:cNvSpPr/>
          <p:nvPr/>
        </p:nvSpPr>
        <p:spPr>
          <a:xfrm>
            <a:off x="3702240" y="5986800"/>
            <a:ext cx="223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 Bold"/>
                <a:ea typeface="Calibri Bold"/>
              </a:rPr>
              <a:t>Lesson Learning Targe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"/>
          <p:cNvSpPr/>
          <p:nvPr/>
        </p:nvSpPr>
        <p:spPr>
          <a:xfrm>
            <a:off x="1445040" y="7332840"/>
            <a:ext cx="223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 Bold"/>
                <a:ea typeface="Calibri Bold"/>
              </a:rPr>
              <a:t>Lesson Learning Targe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2044800" y="1397160"/>
            <a:ext cx="8902440" cy="8102520"/>
          </a:xfrm>
          <a:prstGeom prst="roundRect">
            <a:avLst>
              <a:gd name="adj" fmla="val 234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4" name=""/>
          <p:cNvSpPr/>
          <p:nvPr/>
        </p:nvSpPr>
        <p:spPr>
          <a:xfrm>
            <a:off x="4477680" y="54360"/>
            <a:ext cx="4036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Learning Cycle Withi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Each Building Block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"/>
          <p:cNvSpPr/>
          <p:nvPr/>
        </p:nvSpPr>
        <p:spPr>
          <a:xfrm>
            <a:off x="4389480" y="2439360"/>
            <a:ext cx="4214520" cy="3661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Initial Ideas about Learning Targ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6485040" y="2900160"/>
            <a:ext cx="17280" cy="507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"/>
          <p:cNvSpPr/>
          <p:nvPr/>
        </p:nvSpPr>
        <p:spPr>
          <a:xfrm>
            <a:off x="4390560" y="4604760"/>
            <a:ext cx="3738960" cy="366120"/>
          </a:xfrm>
          <a:prstGeom prst="rect">
            <a:avLst/>
          </a:prstGeom>
          <a:noFill/>
          <a:ln w="25560">
            <a:solidFill>
              <a:srgbClr val="8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Calibri"/>
                <a:ea typeface="Calibri"/>
              </a:rPr>
              <a:t>Reflect on/ Revisit Initial Ide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"/>
          <p:cNvSpPr/>
          <p:nvPr/>
        </p:nvSpPr>
        <p:spPr>
          <a:xfrm>
            <a:off x="5648040" y="5817600"/>
            <a:ext cx="1712160" cy="366120"/>
          </a:xfrm>
          <a:prstGeom prst="rect">
            <a:avLst/>
          </a:prstGeom>
          <a:noFill/>
          <a:ln w="25560">
            <a:solidFill>
              <a:srgbClr val="4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0080"/>
                </a:solidFill>
                <a:latin typeface="Calibri"/>
                <a:ea typeface="Calibri"/>
              </a:rPr>
              <a:t>Sense Mak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"/>
          <p:cNvSpPr/>
          <p:nvPr/>
        </p:nvSpPr>
        <p:spPr>
          <a:xfrm>
            <a:off x="3804480" y="3430080"/>
            <a:ext cx="5322600" cy="3661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alibri"/>
                <a:ea typeface="Calibri"/>
              </a:rPr>
              <a:t>Gather Evidence about the Learning Targ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"/>
          <p:cNvSpPr/>
          <p:nvPr/>
        </p:nvSpPr>
        <p:spPr>
          <a:xfrm>
            <a:off x="5280480" y="6960600"/>
            <a:ext cx="2370600" cy="366120"/>
          </a:xfrm>
          <a:prstGeom prst="rect">
            <a:avLst/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alibri"/>
                <a:ea typeface="Calibri"/>
              </a:rPr>
              <a:t>Lesson Assess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7516440" y="3886200"/>
            <a:ext cx="12600" cy="658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6437160" y="5046840"/>
            <a:ext cx="20880" cy="720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431600" y="7419600"/>
            <a:ext cx="1592280" cy="911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6443280" y="6270120"/>
            <a:ext cx="17640" cy="613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6804000" y="7416720"/>
            <a:ext cx="1501920" cy="912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6" name=""/>
          <p:cNvSpPr/>
          <p:nvPr/>
        </p:nvSpPr>
        <p:spPr>
          <a:xfrm>
            <a:off x="2301840" y="8362800"/>
            <a:ext cx="4102200" cy="99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Calibri Bold"/>
              </a:rPr>
              <a:t>Students not successful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Calibri Bold"/>
              </a:rPr>
              <a:t>Replan instruction with help of PLC.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Calibri Bold"/>
              </a:rPr>
              <a:t>Begin this lesson cycle over with sharing of initial ideas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"/>
          <p:cNvSpPr/>
          <p:nvPr/>
        </p:nvSpPr>
        <p:spPr>
          <a:xfrm>
            <a:off x="6696000" y="8441640"/>
            <a:ext cx="3943440" cy="426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Calibri Bold"/>
              </a:rPr>
              <a:t>Students successful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Calibri Bold"/>
              </a:rPr>
              <a:t>Proceed to next lesson in learning progression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"/>
          <p:cNvSpPr/>
          <p:nvPr/>
        </p:nvSpPr>
        <p:spPr>
          <a:xfrm>
            <a:off x="5149440" y="1588320"/>
            <a:ext cx="2709000" cy="366120"/>
          </a:xfrm>
          <a:prstGeom prst="rect">
            <a:avLst/>
          </a:prstGeom>
          <a:noFill/>
          <a:ln w="255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ff"/>
                </a:solidFill>
                <a:latin typeface="Calibri"/>
                <a:ea typeface="Calibri"/>
              </a:rPr>
              <a:t>Share Learning Targ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6489720" y="2006640"/>
            <a:ext cx="9360" cy="355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0" name=""/>
          <p:cNvSpPr/>
          <p:nvPr/>
        </p:nvSpPr>
        <p:spPr>
          <a:xfrm>
            <a:off x="5272200" y="3898800"/>
            <a:ext cx="11160" cy="633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-1063800" y="-279360"/>
            <a:ext cx="15124320" cy="1009008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0" y="8147160"/>
            <a:ext cx="119761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How do you share learning targets with your students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0735920" y="9174600"/>
            <a:ext cx="21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-12600" y="25200"/>
            <a:ext cx="13004640" cy="2679480"/>
          </a:xfrm>
          <a:prstGeom prst="rect">
            <a:avLst/>
          </a:prstGeom>
          <a:solidFill>
            <a:srgbClr val="ffffff"/>
          </a:solidFill>
          <a:ln w="63360">
            <a:solidFill>
              <a:srgbClr val="800000"/>
            </a:solidFill>
            <a:miter/>
          </a:ln>
        </p:spPr>
        <p:txBody>
          <a:bodyPr lIns="50760" rIns="1155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the following questions as you read Knowing Your Learning Tar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is it important to share learning targets with your stud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students need to know about a learning target in order to be successfu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 your ideas with your table ma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-12600" y="2654280"/>
            <a:ext cx="13004640" cy="7480440"/>
          </a:xfrm>
          <a:prstGeom prst="rect">
            <a:avLst/>
          </a:prstGeom>
          <a:ln w="63360">
            <a:solidFill>
              <a:srgbClr val="8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-1079640" y="-3327480"/>
            <a:ext cx="17119800" cy="1711980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647640" y="75960"/>
            <a:ext cx="11709360" cy="35938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 fontScale="95000"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Bold"/>
                <a:ea typeface="Calibri Bold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 Bold"/>
                <a:ea typeface="Calibri Bol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Calibri Bold"/>
                <a:ea typeface="Calibri Bold"/>
              </a:rPr>
              <a:t> students will be able to do when they’ve finished the lesson (assessment or performance expect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Bold"/>
                <a:ea typeface="Calibri Bold"/>
              </a:rPr>
              <a:t>2) What idea, topic, or subject is important for students to learn and understand so they can do this (content or process go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Bold"/>
                <a:ea typeface="Calibri Bold"/>
              </a:rPr>
              <a:t>3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 Bold"/>
                <a:ea typeface="Calibri Bold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Calibri Bold"/>
                <a:ea typeface="Calibri Bold"/>
              </a:rPr>
              <a:t> students will show that they can do this,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 Bold"/>
                <a:ea typeface="Calibri Bold"/>
              </a:rPr>
              <a:t>how well</a:t>
            </a:r>
            <a:r>
              <a:rPr b="0" lang="en-US" sz="3200" spc="-1" strike="noStrike">
                <a:solidFill>
                  <a:srgbClr val="ffffff"/>
                </a:solidFill>
                <a:latin typeface="Calibri Bold"/>
                <a:ea typeface="Calibri Bold"/>
              </a:rPr>
              <a:t> students will have to do it (criteria for suc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0675440" y="9124560"/>
            <a:ext cx="3193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6637-5B7F-4F8C-817C-5DB6B0E251F3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1" name=""/>
          <p:cNvSpPr/>
          <p:nvPr/>
        </p:nvSpPr>
        <p:spPr>
          <a:xfrm>
            <a:off x="-228600" y="7721640"/>
            <a:ext cx="110743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Bold Italic"/>
                <a:ea typeface="Calibri Bold Italic"/>
              </a:rPr>
              <a:t>A learning target should convey to your students what today’s lesson should mean for them- as well as how this target is related to the big ideas in the unit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517F1-CF41-487A-87FD-B5C167A0397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906480" y="-2343240"/>
            <a:ext cx="15117840" cy="1441476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3276360" y="2260080"/>
            <a:ext cx="6476760" cy="28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Bold"/>
                <a:ea typeface="Calibri Bold"/>
              </a:rPr>
              <a:t>Consider each learning target from a student’s perspective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Bold"/>
                <a:ea typeface="Calibri Bold"/>
              </a:rPr>
              <a:t>What will I be able to do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Bold"/>
                <a:ea typeface="Calibri Bold"/>
              </a:rPr>
              <a:t>What is important for me to understand to do this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Bold"/>
                <a:ea typeface="Calibri Bold"/>
              </a:rPr>
              <a:t>What are the criteria for success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4" name=""/>
          <p:cNvSpPr/>
          <p:nvPr/>
        </p:nvSpPr>
        <p:spPr>
          <a:xfrm>
            <a:off x="2629080" y="609588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Describe how you could make one of the sample learning targets clear for your students using one of the strategies from Figure 2.1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Share your example with other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